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04C-3DCB-4F59-A609-0AADF083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FBE-DADC-488B-86C8-3C19843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310-8B3D-4175-B293-E64D9244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F5D-9F5D-494F-9050-8B5B5D52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68F-A3FA-469F-B5CE-8DDE4C09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C8C-7BBA-49E8-BD1C-E61237D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7C2B-E87C-4C73-AF89-7EFAB04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8A6-7C33-4A94-B9FD-40EC54F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443-0AAB-43A9-8361-7C11A43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887-678D-46AA-8E2C-895034F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2480-2B75-428E-B9F8-CA89552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FD0-67C1-44C8-AF2C-61BDAF87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A30-BC60-418B-ABE1-C125406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0BA-84F1-4BE8-B7A8-64CDDDA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EE3-9C4F-48A9-96F6-B74BCF55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58B-9592-42B3-A41C-E4DF7999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1D8-0FAD-43E8-8E50-107EB0C2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51F-76B8-4EE3-B269-45E280D3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1CD-CE40-4B69-854A-CDE9FD60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9E3-A391-4BEE-83EA-8DCC787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092-C42A-48B8-A43A-9C970ACA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93C-3DB3-4FBB-927B-8071423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79E-552C-46E9-A36B-3EAB504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A84-5627-4CA0-8E85-AB5FB96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59F4C-40DF-4DDB-96FF-DB458274C8A7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5EB4E-8973-46EA-8752-9D110F431A8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86BEF-15D0-45F1-9037-8ADB21EC9ECC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9F4D8-5655-4970-9908-01181023A01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0800" y="4154400"/>
            <a:ext cx="75420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ocial Networking for Education:  A Discuss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0800" y="5230800"/>
            <a:ext cx="75420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Center for Digital Education, NYC, Broward, Clarke, Chicago, Suffolk Co BOCE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January 25, 2010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7600" y="3123720"/>
            <a:ext cx="7584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What is a social network?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8" name="Picture Placeholder 5" descr="social-network_illu_farbig.png"/>
          <p:cNvPicPr/>
          <p:nvPr/>
        </p:nvPicPr>
        <p:blipFill>
          <a:blip r:embed="rId2"/>
          <a:stretch/>
        </p:blipFill>
        <p:spPr>
          <a:xfrm>
            <a:off x="2932200" y="390600"/>
            <a:ext cx="327960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600" y="3809520"/>
            <a:ext cx="75848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n association of people drawn together by family, work or hobby. The term was first coined by Professor J. A. Barnes in the 1950s, who defined the size of a social network as a group of about 100 to 150 people.”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ndara"/>
              </a:rPr>
              <a:t>Copyright © 1981- 2009 The Computer Language Company Inc.</a:t>
            </a:r>
            <a:endParaRPr b="1" lang="en-US" sz="1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opular Social Networks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493560" y="1878120"/>
            <a:ext cx="8150400" cy="39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828800" y="5835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Go2Web20 - List of Web 2.0 Tools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ocial Networks in Education - Benefit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79040" y="1882800"/>
            <a:ext cx="75819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2880" indent="-3628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courage students to express their own though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vide effective collaboration and communic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hance students’ learning experienc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uild an online learning communit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in experience and knowledge  of 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century literacy skill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vide career related skills needed for workplace succes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NETS Skills Supported 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eativity and Innov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munication and Collabor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Interact, collaborate and publish with peer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Research and Information Fluenc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itical Thinking, Problem Solving, and Decision Mak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igital Citizenship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at are other districts doing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Facebook wide open – not blocked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ard to be preyed upon if anonymou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Article on wiki site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Using some of the tools – twitter – BCP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ttp://www.browardschools.com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Using Second life – Escambia County, Florida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ttp://sleec.edublogs.org/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Status from our group – who is using what?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Does anyone have a social networking policy?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ecurity Issues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nternet protec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ell phones used to access non-CIPA Compliant sit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ethering cell phones secretly to laptops for unrestricted access to web sit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Skype or not to Skype?  Guidelines for us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at are our issues and potential resolution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CIPA Complianc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Training, curriculum alignment of social and ethical use of technology – including copyright and intellectual property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Erate complianc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Nings, blogs and wikis- can limit the participant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Supervision and monitoring by the teacher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Student Email – protected “wall-garden” – ePals, Gaggle, FirstClas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We need them to practice, how can we do it in a protected method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1" marL="798120" indent="-39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iki communication sit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83040" indent="-38304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http://social-net.wikispaces.com/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Need access for other members of staff?  Email:  jeanine.gendron@browardschools.com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Forum for sharing documents  &amp; communicating through discussions on our discussion topics as we move forward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ll members have editing right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odel and use a Web 2.0 tool – But it is only beneficial if we use it!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9:56Z</dcterms:created>
  <dc:creator>ETS SBBC</dc:creator>
  <dc:description/>
  <dc:language>en-US</dc:language>
  <cp:lastModifiedBy>ETS SBBC</cp:lastModifiedBy>
  <dcterms:modified xsi:type="dcterms:W3CDTF">2010-01-25T16:12:55Z</dcterms:modified>
  <cp:revision>22</cp:revision>
  <dc:subject/>
  <dc:title>Social Networking for Education:  A Discussion</dc:title>
</cp:coreProperties>
</file>